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6AD-9673-4AAB-ABB9-3859555E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52E-99AB-4A0E-8F4E-CD622A66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CEA-B41B-44F7-9DD3-7DF372AD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810-F5C2-4450-B0B7-8CA45632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E674-39D8-426D-930F-8FFD1AD0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5F72-A713-4107-9C9B-D1073EDE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2FE4-8CC0-427F-9B50-E3FACECC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AC27-9A2F-492E-AF46-C6DB4AE4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2336-7EE3-4056-AA59-0DFFEFAC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D84B-78E8-4C3F-BC1B-D18BFE76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0C57-4274-4058-B298-BD15EFC1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749-CE2D-4001-8A0F-481462F7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89E3-07B5-47FD-A8BA-8ACBE073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E152-FA14-4325-8975-89B8F344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8814-6E7D-414C-AE51-939993FB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3AE6-73A4-419B-B75E-C6555BBC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24B5-0F08-46A9-836C-E647144A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D35-3021-45CF-9770-D08A20B3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149-F6E9-4B62-9978-52DD9201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C31-CB0A-4C8A-AC02-0E1AC0BB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E83-6E94-4B39-AC62-1ECB4DF0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CD2-B4EB-4B71-988E-06B82223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E16-A8A5-4BB6-A5F5-E41D98D1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30C-AC46-43B3-A959-89C193D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E335-F47E-481B-BAB8-F70AAB0EDF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1E25-11CF-4616-B863-451DC9DD53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use fun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.g. f (x) = 3x- 5, f:x--&gt; 3x- 5 to describe simple func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for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te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defined by gf(x) = g(f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use the notation 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to describe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I can subsequently fi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x) means “some function applied to 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f(x) = 3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2) =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4)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-1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dif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x) = 3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2) =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x) = 5, 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4653000"/>
            <a:ext cx="3456000" cy="1512720"/>
          </a:xfrm>
          <a:prstGeom prst="wedgeRectCallout">
            <a:avLst>
              <a:gd name="adj1" fmla="val -43064"/>
              <a:gd name="adj2" fmla="val -80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working backwards. “When you do ‘f’ to x, the answer is 5. What is x?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lso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x) = 3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4) =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x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g(x) = 4(x –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(1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(x) = 1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0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)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quivalent statements can we make for th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9273" t="7790" r="0" b="32781"/>
          <a:stretch/>
        </p:blipFill>
        <p:spPr>
          <a:xfrm rot="21408600">
            <a:off x="1692000" y="0"/>
            <a:ext cx="7711920" cy="695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48520" y="2362320"/>
            <a:ext cx="533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9796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notation can also be used in graph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(x) =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+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(x) =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3x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g(x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(x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as f(g(x)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as g(f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g(x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f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3x –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(x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g(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+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3x –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+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+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9x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– 6x + 1 + 2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3x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+ 6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9x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– 6x + 3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3x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g(x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(x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h(x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f(x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00000" y="1989000"/>
                <a:ext cx="16574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92360" y="1700280"/>
                <a:ext cx="11541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867280" y="1844640"/>
                <a:ext cx="16081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2560" y="4138560"/>
            <a:ext cx="337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rse – working the other way. e.g. f(x) = 3x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1: Flow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does f(x) tell us to do to 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2: Change th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input, let y =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rse means we switch the input and output... then so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 = 3x – 2   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x = 3y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2 = 3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2 =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2560" y="41418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75040" y="41385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46320" y="3922560"/>
            <a:ext cx="8287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49600" y="3922560"/>
            <a:ext cx="8287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1400" y="4538520"/>
            <a:ext cx="38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3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x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82560" y="5337000"/>
            <a:ext cx="337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75040" y="53370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46320" y="5121360"/>
            <a:ext cx="8287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9600" y="5121360"/>
            <a:ext cx="8287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1400" y="5737320"/>
            <a:ext cx="382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+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x +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82560" y="6130800"/>
            <a:ext cx="5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51944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2: Change th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input, let y =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rse means we switch the input and output... then so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 = 3x – 2   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x = 3y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2 = 3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2 =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51944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0:13:35Z</dcterms:created>
  <dc:creator>N Holden</dc:creator>
  <dc:description/>
  <dc:language>en-US</dc:language>
  <cp:lastModifiedBy>N Holden</cp:lastModifiedBy>
  <dcterms:modified xsi:type="dcterms:W3CDTF">2009-03-10T10:35:42Z</dcterms:modified>
  <cp:revision>4</cp:revision>
  <dc:subject/>
  <dc:title>IGCSE Revision Lesson 7</dc:title>
</cp:coreProperties>
</file>